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4ED-66ED-4358-8D15-2966F3F8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9FC3-9CDE-4303-8F33-B8B92C3E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1AF-DA10-48C8-BFA7-95DAFF71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747F-B2E6-49EE-8BF8-C57CA2DA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5FC-4C81-406A-A69A-2B167293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B46-9F7D-4E2D-921A-8229734E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5F0-0719-465C-91D9-A99E88E0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27E0-0754-4F24-8FD5-F2A68FFB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FA45-2656-4082-BCED-C098F510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DCC7-02D4-4422-938F-DFD00D3F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CB4-A851-4085-A0CF-A9A986DC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6D4-D384-445C-B9D7-4BCD7D5B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0E43-7B1E-42BC-B322-3666DF8FB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ac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Opin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812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Tell the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ken that has not been properly prepared and cooked may cause salmon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ting on your boyfriend or girlfriend is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Xbox came out before the W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 Mario is one of the greatest video game characters of al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colate milk tastes better than regular mi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er school students are scheduled to attend school more often than students who attend neighborhood sch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statements that can be pro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 may be tru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acts can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Statistically, women live longer than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buses weigh more than most c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en inches in a foot (false)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pi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Opinion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re statements that cannot be prove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s can be argu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s may be supported with f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s cannot be pro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f is b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 is delic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is the hardest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ac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Opinio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sales records, strawberry ice-cream is the worst selling of all flav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we can conclude that strawberry is the least popular major ice-cream fla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ecause strawberry ice-cream does not taste as good as vanilla and choco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whether each example is fact or opin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your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amily Gu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t appropriate to watch during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ewer panda bears in the world than grizzly b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nking orange juice right after brushing your teeth tastes b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n Bieber deserved to win the Grammy for best new art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05:31:49Z</dcterms:created>
  <dc:creator>Mr. Morton</dc:creator>
  <dc:description/>
  <dc:language>en-US</dc:language>
  <cp:lastModifiedBy>Computer Tech</cp:lastModifiedBy>
  <dcterms:modified xsi:type="dcterms:W3CDTF">2013-02-13T17:37:11Z</dcterms:modified>
  <cp:revision>5</cp:revision>
  <dc:subject/>
  <dc:title>Fact and Opinion</dc:title>
</cp:coreProperties>
</file>